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1.png" ContentType="image/png"/>
  <Override PartName="/ppt/media/image9.jpeg" ContentType="image/jpeg"/>
  <Override PartName="/ppt/media/image12.png" ContentType="image/pn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15.wmf" ContentType="image/x-wmf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04A6-4C2D-439D-B7DB-C65D4B8D6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7684-6EFC-4049-B5E4-6D5B8A95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923C-8C9E-44F7-A769-126C2E1B7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C6FE-2A9E-44A1-B513-E9AC2D316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A91F-AA2E-4800-96EB-5842C2480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571DE-692F-4796-BBE8-912DA171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F5F1-6E28-47AD-AD6B-CF023113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5BD4-903A-4EDE-B42A-871B669B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91AA-F366-4B09-BEB1-3EB57DCB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2B3C-ACB1-4405-85BB-39F02695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4F7E-FCFA-4131-8AEE-77FA630C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36CB-C23F-47E5-BCD7-5F4B4E18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A80B-481F-4ED6-A812-E1AB11BC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B23F5-1608-4322-A523-53BFE79C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5A45-231F-4B00-B787-68ED8534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A738-A95F-449A-8E33-2BA681C0D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EE9A-B083-4474-AF16-66E6C673F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C5FD9-56A5-42E9-A2A1-DD04AE77A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31091-C7C3-46FB-B853-D9A7CD35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2AD31-6D29-4583-B44B-FC1E5CC6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B734B-89AE-458E-8811-43DD563B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CC435-0A3A-4A57-850E-7D179F72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B873-02C3-40C0-9967-2B1144A8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CBDAE-B274-4AF5-8DD8-887B7590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DA1B4-6A17-46EC-B332-2DCA8779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6E25E-0AA9-44C9-88FD-92EE072A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BE0B3-3F89-4D87-9584-7536FB95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FBE3C-5417-46FF-9A66-D855C093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31E65-B254-42C8-BA4B-D0DE0E259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38539-E480-46E0-B67A-1D626829C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2AAE9-C53D-4840-92DC-2C3CA112C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60CC2-C4E4-4728-B3DA-BDA2ACA1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07DAF-3B03-45EA-899F-5F68DC7C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FBF1-6304-4423-921E-09F1B895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0B0A9-A12E-4A32-A3CE-8F6D1F2B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432EE-DE3D-4013-B7D6-5A98FB5B0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A7F15-EEAA-41A0-9E76-8F42B0EA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E9DDE-3DC3-40B3-9FB5-2649A8D6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66FAA-554A-41C5-BE1A-6DA73968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CE801-EA96-4556-A413-F34B5525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F3C14-2356-4004-B333-8DB1CB35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10ABD-DF3B-439D-A87F-1EFAAA7A1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A6F39-9E41-48D3-9D45-EC72FC86B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13CD3-12BD-4987-B1EB-09B26F7D5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6C98-A0C1-4492-821C-21D8D7D4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B81FD-D22E-4647-B3E5-5080A06E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84236-F444-44F3-975B-DDCA8686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E5256-E5D4-441A-9A28-FF6756E0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5C865-ED66-4AD8-86F3-421E9502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873A7-55B2-42A9-A597-62E3BC75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D6B1B-55E9-4E39-9082-070085EA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CEEBC-1D62-4959-B8B6-14894E29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24882-BB01-4DE9-8137-9D5D62F1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7D876-5A8D-4E1D-9CE9-BA7088DD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4362B-8AA9-470D-A9AC-2AEA74BD0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EBF6-4926-445B-8D48-B18177EE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906AE-F8A0-4EEB-AD1D-43523B51B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CE87-8DDB-4DEC-A322-26BAECCD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E628-C406-4FF6-AE03-987B7A0E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4EBE-A496-49BD-9AF8-70D1DF0D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c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4A9A69-9115-40E4-BE09-9D2E287A96BB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c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2" name="Freeform 28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6c911d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21B11A-6C00-406E-B0F3-F2C0AD638FB3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c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6A47A6-22EF-4E7C-907B-60BDAA059D49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c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B52C04-6ECC-4B24-969E-9F61795123CC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c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3" name="Straight Connector 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14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15" name="Freeform 8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168FDB-8D74-4B04-A081-757CACAC739C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WordArt 4"/>
          <p:cNvSpPr txBox="1"/>
          <p:nvPr/>
        </p:nvSpPr>
        <p:spPr>
          <a:xfrm>
            <a:off x="990720" y="1836720"/>
            <a:ext cx="7162560" cy="318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3f3f3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The Factors</a:t>
            </a:r>
            <a:endParaRPr b="0" lang="en-US" sz="1800" spc="1" strike="noStrike">
              <a:ln w="0">
                <a:noFill/>
              </a:ln>
              <a:solidFill>
                <a:srgbClr val="f3f3f3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3f3f3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that Affect</a:t>
            </a:r>
            <a:endParaRPr b="0" lang="en-US" sz="1800" spc="1" strike="noStrike">
              <a:ln w="0">
                <a:noFill/>
              </a:ln>
              <a:solidFill>
                <a:srgbClr val="f3f3f3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3f3f3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Climate</a:t>
            </a:r>
            <a:endParaRPr b="0" lang="en-US" sz="1800" spc="1" strike="noStrike">
              <a:ln w="0">
                <a:noFill/>
              </a:ln>
              <a:solidFill>
                <a:srgbClr val="f3f3f3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4" descr=""/>
          <p:cNvPicPr/>
          <p:nvPr/>
        </p:nvPicPr>
        <p:blipFill>
          <a:blip r:embed="rId1"/>
          <a:stretch/>
        </p:blipFill>
        <p:spPr>
          <a:xfrm>
            <a:off x="987480" y="790560"/>
            <a:ext cx="7170840" cy="527688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7"/>
          <p:cNvSpPr/>
          <p:nvPr/>
        </p:nvSpPr>
        <p:spPr>
          <a:xfrm>
            <a:off x="1660680" y="4608360"/>
            <a:ext cx="336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The windward sides of the Adirondacks &amp; Catskills receive a great deal more precipitation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Line 8"/>
          <p:cNvSpPr/>
          <p:nvPr/>
        </p:nvSpPr>
        <p:spPr>
          <a:xfrm flipV="1">
            <a:off x="4572000" y="2971440"/>
            <a:ext cx="228600" cy="1676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Line 9"/>
          <p:cNvSpPr/>
          <p:nvPr/>
        </p:nvSpPr>
        <p:spPr>
          <a:xfrm flipV="1">
            <a:off x="4572000" y="4419360"/>
            <a:ext cx="95256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6848640" y="790560"/>
            <a:ext cx="1904760" cy="2014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The leeward sides of the Adirondacks &amp; Catskills receive much less precipitation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Line 11"/>
          <p:cNvSpPr/>
          <p:nvPr/>
        </p:nvSpPr>
        <p:spPr>
          <a:xfrm flipH="1">
            <a:off x="6553080" y="1752480"/>
            <a:ext cx="60984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Line 12"/>
          <p:cNvSpPr/>
          <p:nvPr/>
        </p:nvSpPr>
        <p:spPr>
          <a:xfrm flipH="1">
            <a:off x="5638680" y="2057400"/>
            <a:ext cx="1371600" cy="2057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slow">
    <p:cover dir="r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AutoShape 2"/>
          <p:cNvSpPr/>
          <p:nvPr/>
        </p:nvSpPr>
        <p:spPr>
          <a:xfrm>
            <a:off x="838080" y="571680"/>
            <a:ext cx="7467840" cy="6057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Yard Sale"/>
              </a:rPr>
              <a:t>How does the 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Yard Sale"/>
              </a:rPr>
              <a:t>Orographic Effect 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Yard Sale"/>
              </a:rPr>
              <a:t>affect climate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rebuchet MS"/>
              </a:rPr>
              <a:t>Windward Side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:  ___________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Leeward Side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: _____________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04" name="Picture 6" descr=""/>
          <p:cNvPicPr/>
          <p:nvPr/>
        </p:nvPicPr>
        <p:blipFill>
          <a:blip r:embed="rId1"/>
          <a:stretch/>
        </p:blipFill>
        <p:spPr>
          <a:xfrm>
            <a:off x="2200320" y="3962520"/>
            <a:ext cx="4743360" cy="260964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7"/>
          <p:cNvSpPr/>
          <p:nvPr/>
        </p:nvSpPr>
        <p:spPr>
          <a:xfrm>
            <a:off x="4952880" y="2666880"/>
            <a:ext cx="245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rebuchet MS"/>
              </a:rPr>
              <a:t>cool, mois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6" name="Text Box 8"/>
          <p:cNvSpPr/>
          <p:nvPr/>
        </p:nvSpPr>
        <p:spPr>
          <a:xfrm>
            <a:off x="4800600" y="3209760"/>
            <a:ext cx="24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warm, dry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slow">
    <p:strips dir="lu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5" descr="elandtemp"/>
          <p:cNvPicPr/>
          <p:nvPr/>
        </p:nvPicPr>
        <p:blipFill>
          <a:blip r:embed="rId1"/>
          <a:stretch/>
        </p:blipFill>
        <p:spPr>
          <a:xfrm>
            <a:off x="1417680" y="990720"/>
            <a:ext cx="6307200" cy="5521320"/>
          </a:xfrm>
          <a:prstGeom prst="rect">
            <a:avLst/>
          </a:prstGeom>
          <a:ln w="0">
            <a:noFill/>
          </a:ln>
        </p:spPr>
      </p:pic>
      <p:sp>
        <p:nvSpPr>
          <p:cNvPr id="308" name="WordArt 6"/>
          <p:cNvSpPr txBox="1"/>
          <p:nvPr/>
        </p:nvSpPr>
        <p:spPr>
          <a:xfrm>
            <a:off x="6122880" y="174600"/>
            <a:ext cx="28623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Elevatio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newsflash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1727280" y="1095480"/>
            <a:ext cx="5688000" cy="4667040"/>
          </a:xfrm>
          <a:prstGeom prst="rect">
            <a:avLst/>
          </a:prstGeom>
          <a:ln w="0">
            <a:noFill/>
          </a:ln>
        </p:spPr>
      </p:pic>
      <p:sp>
        <p:nvSpPr>
          <p:cNvPr id="310" name="WordArt 5"/>
          <p:cNvSpPr txBox="1"/>
          <p:nvPr/>
        </p:nvSpPr>
        <p:spPr>
          <a:xfrm>
            <a:off x="6122880" y="174600"/>
            <a:ext cx="28623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Elevatio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3230640" y="4697280"/>
            <a:ext cx="3500280" cy="281160"/>
          </a:xfrm>
          <a:prstGeom prst="rect">
            <a:avLst/>
          </a:prstGeom>
          <a:solidFill>
            <a:srgbClr val="0000ff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Line 8"/>
          <p:cNvSpPr/>
          <p:nvPr/>
        </p:nvSpPr>
        <p:spPr>
          <a:xfrm flipH="1">
            <a:off x="5257440" y="3809880"/>
            <a:ext cx="6858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slow">
    <p:split dir="in" orient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5" descr="tmp_monthly_07"/>
          <p:cNvPicPr/>
          <p:nvPr/>
        </p:nvPicPr>
        <p:blipFill>
          <a:blip r:embed="rId1"/>
          <a:stretch/>
        </p:blipFill>
        <p:spPr>
          <a:xfrm>
            <a:off x="838080" y="380880"/>
            <a:ext cx="7467840" cy="559908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8"/>
          <p:cNvSpPr/>
          <p:nvPr/>
        </p:nvSpPr>
        <p:spPr>
          <a:xfrm>
            <a:off x="666720" y="6095880"/>
            <a:ext cx="7810560" cy="82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During summer, temperature is strongly controlled by elevation -- cold at the higher reaches of the Alaska and Brooks Ranges, and warmer in the lowlands.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slow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AutoShape 2"/>
          <p:cNvSpPr/>
          <p:nvPr/>
        </p:nvSpPr>
        <p:spPr>
          <a:xfrm>
            <a:off x="838080" y="571680"/>
            <a:ext cx="7467840" cy="6057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Yard Sale"/>
              </a:rPr>
              <a:t>How does elevation 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Yard Sale"/>
              </a:rPr>
              <a:t>affect climate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As elevation _________, the averag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annual temperature __________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6" name="Line 4"/>
          <p:cNvSpPr/>
          <p:nvPr/>
        </p:nvSpPr>
        <p:spPr>
          <a:xfrm>
            <a:off x="3352680" y="3657600"/>
            <a:ext cx="0" cy="22096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Line 5"/>
          <p:cNvSpPr/>
          <p:nvPr/>
        </p:nvSpPr>
        <p:spPr>
          <a:xfrm flipH="1">
            <a:off x="3321000" y="5867280"/>
            <a:ext cx="22860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3192480" y="6019920"/>
            <a:ext cx="27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Elevation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9" name="Text Box 7"/>
          <p:cNvSpPr/>
          <p:nvPr/>
        </p:nvSpPr>
        <p:spPr>
          <a:xfrm rot="16200000">
            <a:off x="2086200" y="4484520"/>
            <a:ext cx="16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Temperature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0" name="Line 8"/>
          <p:cNvSpPr/>
          <p:nvPr/>
        </p:nvSpPr>
        <p:spPr>
          <a:xfrm>
            <a:off x="3581280" y="3657600"/>
            <a:ext cx="1981440" cy="1981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Text Box 9"/>
          <p:cNvSpPr/>
          <p:nvPr/>
        </p:nvSpPr>
        <p:spPr>
          <a:xfrm>
            <a:off x="3567240" y="24210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rebuchet MS"/>
              </a:rPr>
              <a:t>increase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Text Box 10"/>
          <p:cNvSpPr/>
          <p:nvPr/>
        </p:nvSpPr>
        <p:spPr>
          <a:xfrm>
            <a:off x="5334120" y="293544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decrease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slow">
    <p:push dir="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5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WordArt 5"/>
          <p:cNvSpPr txBox="1"/>
          <p:nvPr/>
        </p:nvSpPr>
        <p:spPr>
          <a:xfrm>
            <a:off x="6122880" y="174600"/>
            <a:ext cx="28623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Ocean Current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24" name="Picture 6" descr=""/>
          <p:cNvPicPr/>
          <p:nvPr/>
        </p:nvPicPr>
        <p:blipFill>
          <a:blip r:embed="rId1"/>
          <a:stretch/>
        </p:blipFill>
        <p:spPr>
          <a:xfrm>
            <a:off x="457200" y="843120"/>
            <a:ext cx="8229600" cy="4714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9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5" descr="sst_brown"/>
          <p:cNvPicPr/>
          <p:nvPr/>
        </p:nvPicPr>
        <p:blipFill>
          <a:blip r:embed="rId1"/>
          <a:stretch/>
        </p:blipFill>
        <p:spPr>
          <a:xfrm>
            <a:off x="1600200" y="685800"/>
            <a:ext cx="5943600" cy="5943600"/>
          </a:xfrm>
          <a:prstGeom prst="rect">
            <a:avLst/>
          </a:prstGeom>
          <a:ln w="0">
            <a:noFill/>
          </a:ln>
        </p:spPr>
      </p:pic>
      <p:sp>
        <p:nvSpPr>
          <p:cNvPr id="326" name="WordArt 6"/>
          <p:cNvSpPr txBox="1"/>
          <p:nvPr/>
        </p:nvSpPr>
        <p:spPr>
          <a:xfrm>
            <a:off x="5105520" y="5715000"/>
            <a:ext cx="20286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Gulf Strea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AutoShape 2"/>
          <p:cNvSpPr/>
          <p:nvPr/>
        </p:nvSpPr>
        <p:spPr>
          <a:xfrm>
            <a:off x="838080" y="1409760"/>
            <a:ext cx="7467840" cy="40384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Yard Sale"/>
              </a:rPr>
              <a:t>How do ocean currents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Yard Sale"/>
              </a:rPr>
              <a:t>affect climate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Warm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Currents: 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warmer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climat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rebuchet MS"/>
              </a:rPr>
              <a:t>Cold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Currents:  </a:t>
            </a:r>
            <a:r>
              <a:rPr b="1" lang="en-US" sz="3200" spc="-1" strike="noStrike">
                <a:solidFill>
                  <a:srgbClr val="0000ff"/>
                </a:solidFill>
                <a:latin typeface="Trebuchet MS"/>
              </a:rPr>
              <a:t>cooler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climat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slow"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AutoShape 4"/>
          <p:cNvSpPr/>
          <p:nvPr/>
        </p:nvSpPr>
        <p:spPr>
          <a:xfrm>
            <a:off x="762120" y="609480"/>
            <a:ext cx="8076960" cy="5715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rebuchet MS"/>
              </a:rPr>
              <a:t>Identifying five factors </a:t>
            </a:r>
            <a:endParaRPr b="0" lang="en-US" sz="54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rebuchet MS"/>
              </a:rPr>
              <a:t>that affect climate </a:t>
            </a:r>
            <a:endParaRPr b="0" lang="en-US" sz="54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rebuchet MS"/>
              </a:rPr>
              <a:t>and explaining </a:t>
            </a:r>
            <a:endParaRPr b="0" lang="en-US" sz="54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rebuchet MS"/>
              </a:rPr>
              <a:t>how each </a:t>
            </a:r>
            <a:endParaRPr b="0" lang="en-US" sz="54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rebuchet MS"/>
              </a:rPr>
              <a:t>affects climate.</a:t>
            </a:r>
            <a:endParaRPr b="0" lang="en-US" sz="5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slow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3" descr="Current Sea Surface Temperature Plot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67" name="WordArt 4"/>
          <p:cNvSpPr txBox="1"/>
          <p:nvPr/>
        </p:nvSpPr>
        <p:spPr>
          <a:xfrm>
            <a:off x="6078600" y="144360"/>
            <a:ext cx="2862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Latitud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AutoShape 2"/>
          <p:cNvSpPr/>
          <p:nvPr/>
        </p:nvSpPr>
        <p:spPr>
          <a:xfrm>
            <a:off x="838080" y="571680"/>
            <a:ext cx="7467840" cy="5715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Yard Sale"/>
              </a:rPr>
              <a:t>How does latitude 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Yard Sale"/>
              </a:rPr>
              <a:t>affect climate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As latitude ________, the average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annual temperature _________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Line 3"/>
          <p:cNvSpPr/>
          <p:nvPr/>
        </p:nvSpPr>
        <p:spPr>
          <a:xfrm>
            <a:off x="3352680" y="3429000"/>
            <a:ext cx="0" cy="22096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0" name="Line 4"/>
          <p:cNvSpPr/>
          <p:nvPr/>
        </p:nvSpPr>
        <p:spPr>
          <a:xfrm flipH="1">
            <a:off x="3321000" y="5638680"/>
            <a:ext cx="22860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3192480" y="5791320"/>
            <a:ext cx="27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0°           Latitude      90°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2" name="Text Box 7"/>
          <p:cNvSpPr/>
          <p:nvPr/>
        </p:nvSpPr>
        <p:spPr>
          <a:xfrm rot="16200000">
            <a:off x="2086200" y="4255920"/>
            <a:ext cx="16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Temperature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Line 8"/>
          <p:cNvSpPr/>
          <p:nvPr/>
        </p:nvSpPr>
        <p:spPr>
          <a:xfrm>
            <a:off x="3581280" y="3429000"/>
            <a:ext cx="1981440" cy="1981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5334120" y="2362320"/>
            <a:ext cx="230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decreases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3301920" y="1835280"/>
            <a:ext cx="214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increases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slow">
    <p:wheel spokes="1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AutoShape 7"/>
          <p:cNvSpPr/>
          <p:nvPr/>
        </p:nvSpPr>
        <p:spPr>
          <a:xfrm>
            <a:off x="228600" y="93600"/>
            <a:ext cx="8686800" cy="744480"/>
          </a:xfrm>
          <a:prstGeom prst="roundRect">
            <a:avLst>
              <a:gd name="adj" fmla="val 16667"/>
            </a:avLst>
          </a:prstGeom>
          <a:solidFill>
            <a:srgbClr val="000000">
              <a:alpha val="5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3541680" cy="51814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"/>
          <p:cNvPicPr/>
          <p:nvPr/>
        </p:nvPicPr>
        <p:blipFill>
          <a:blip r:embed="rId2"/>
          <a:stretch/>
        </p:blipFill>
        <p:spPr>
          <a:xfrm>
            <a:off x="4743360" y="993600"/>
            <a:ext cx="3519720" cy="5137200"/>
          </a:xfrm>
          <a:prstGeom prst="rect">
            <a:avLst/>
          </a:prstGeom>
          <a:ln w="0">
            <a:noFill/>
          </a:ln>
        </p:spPr>
      </p:pic>
      <p:sp>
        <p:nvSpPr>
          <p:cNvPr id="279" name="WordArt 6"/>
          <p:cNvSpPr txBox="1"/>
          <p:nvPr/>
        </p:nvSpPr>
        <p:spPr>
          <a:xfrm>
            <a:off x="330120" y="152280"/>
            <a:ext cx="8483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Closeness to Large Bodies of Wate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"/>
          <p:cNvGraphicFramePr/>
          <p:nvPr/>
        </p:nvGraphicFramePr>
        <p:xfrm>
          <a:off x="-2028960" y="-21031200"/>
          <a:ext cx="8229600" cy="5176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1" name="Picture 23" descr=" "/>
          <p:cNvPicPr/>
          <p:nvPr/>
        </p:nvPicPr>
        <p:blipFill>
          <a:blip r:embed="rId1"/>
          <a:stretch/>
        </p:blipFill>
        <p:spPr>
          <a:xfrm>
            <a:off x="6629400" y="1523880"/>
            <a:ext cx="2284560" cy="3695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2" name=""/>
          <p:cNvGraphicFramePr/>
          <p:nvPr/>
        </p:nvGraphicFramePr>
        <p:xfrm>
          <a:off x="-2028960" y="-20513520"/>
          <a:ext cx="208080" cy="479138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819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  </a:t>
                      </a:r>
                      <a:r>
                        <a:rPr b="0" lang="en-US" sz="132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                                                                                     </a:t>
                      </a:r>
                      <a:r>
                        <a:rPr b="0" lang="en-US" sz="138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  </a:t>
                      </a:r>
                      <a:r>
                        <a:rPr b="0" lang="en-US" sz="132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                                                                   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3" name="Picture 17" descr=" "/>
          <p:cNvPicPr/>
          <p:nvPr/>
        </p:nvPicPr>
        <p:blipFill>
          <a:blip r:embed="rId2"/>
          <a:stretch/>
        </p:blipFill>
        <p:spPr>
          <a:xfrm>
            <a:off x="228600" y="1562040"/>
            <a:ext cx="2382840" cy="37339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5" descr="Polar projection"/>
          <p:cNvPicPr/>
          <p:nvPr/>
        </p:nvPicPr>
        <p:blipFill>
          <a:blip r:embed="rId3"/>
          <a:stretch/>
        </p:blipFill>
        <p:spPr>
          <a:xfrm>
            <a:off x="2728800" y="1585800"/>
            <a:ext cx="3686400" cy="3686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AutoShape 2"/>
          <p:cNvSpPr/>
          <p:nvPr/>
        </p:nvSpPr>
        <p:spPr>
          <a:xfrm>
            <a:off x="838080" y="571680"/>
            <a:ext cx="7467840" cy="6057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Yard Sale"/>
              </a:rPr>
              <a:t>How does closeness to a larg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Yard Sale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Yard Sale"/>
              </a:rPr>
              <a:t>body of water affect climate?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Water __________ the temperature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_______ summers.  _______ winters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86" name="Picture 8" descr=""/>
          <p:cNvPicPr/>
          <p:nvPr/>
        </p:nvPicPr>
        <p:blipFill>
          <a:blip r:embed="rId1"/>
          <a:stretch/>
        </p:blipFill>
        <p:spPr>
          <a:xfrm>
            <a:off x="1449360" y="3627360"/>
            <a:ext cx="3427560" cy="292752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9"/>
          <p:cNvSpPr/>
          <p:nvPr/>
        </p:nvSpPr>
        <p:spPr>
          <a:xfrm>
            <a:off x="4784760" y="3541680"/>
            <a:ext cx="3292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City  B is closer to a large body of water.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ts temperature line is flatter (moderated).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2395440" y="1809720"/>
            <a:ext cx="245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moderate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9" name="Text Box 11"/>
          <p:cNvSpPr/>
          <p:nvPr/>
        </p:nvSpPr>
        <p:spPr>
          <a:xfrm>
            <a:off x="1693800" y="2990880"/>
            <a:ext cx="282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Cities A &amp; B are located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at the same latitude.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1066680" y="22860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Cooler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1" name="Text Box 13"/>
          <p:cNvSpPr/>
          <p:nvPr/>
        </p:nvSpPr>
        <p:spPr>
          <a:xfrm>
            <a:off x="4800600" y="22860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Warmer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slow">
    <p:checker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6" descr="cli11"/>
          <p:cNvPicPr/>
          <p:nvPr/>
        </p:nvPicPr>
        <p:blipFill>
          <a:blip r:embed="rId1"/>
          <a:stretch/>
        </p:blipFill>
        <p:spPr>
          <a:xfrm>
            <a:off x="914400" y="1623960"/>
            <a:ext cx="7315200" cy="3610080"/>
          </a:xfrm>
          <a:prstGeom prst="rect">
            <a:avLst/>
          </a:prstGeom>
          <a:ln w="0">
            <a:noFill/>
          </a:ln>
        </p:spPr>
      </p:pic>
      <p:sp>
        <p:nvSpPr>
          <p:cNvPr id="293" name="WordArt 7"/>
          <p:cNvSpPr txBox="1"/>
          <p:nvPr/>
        </p:nvSpPr>
        <p:spPr>
          <a:xfrm>
            <a:off x="6095880" y="0"/>
            <a:ext cx="2862360" cy="8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Orographic Effec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push dir="l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4" descr="precip"/>
          <p:cNvPicPr/>
          <p:nvPr/>
        </p:nvPicPr>
        <p:blipFill>
          <a:blip r:embed="rId1"/>
          <a:stretch/>
        </p:blipFill>
        <p:spPr>
          <a:xfrm>
            <a:off x="2286000" y="901800"/>
            <a:ext cx="4570560" cy="5054400"/>
          </a:xfrm>
          <a:prstGeom prst="rect">
            <a:avLst/>
          </a:prstGeom>
          <a:ln w="0">
            <a:noFill/>
          </a:ln>
        </p:spPr>
      </p:pic>
      <p:sp>
        <p:nvSpPr>
          <p:cNvPr id="295" name="WordArt 5"/>
          <p:cNvSpPr txBox="1"/>
          <p:nvPr/>
        </p:nvSpPr>
        <p:spPr>
          <a:xfrm>
            <a:off x="6095880" y="0"/>
            <a:ext cx="2862360" cy="8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Orographic Effec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02:02:27Z</dcterms:created>
  <dc:creator>Mark Place</dc:creator>
  <dc:description/>
  <dc:language>en-US</dc:language>
  <cp:lastModifiedBy>Jeremy Rasik</cp:lastModifiedBy>
  <dcterms:modified xsi:type="dcterms:W3CDTF">2016-10-03T18:48:35Z</dcterms:modified>
  <cp:revision>34</cp:revision>
  <dc:subject/>
  <dc:title>Factors that Affect Climate</dc:title>
</cp:coreProperties>
</file>